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B289-3DCD-4657-9AE1-18E384D9E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67632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1ABB-E61B-47BC-95F3-2205D8EB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333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67632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33320" y="367632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15FB-5CBB-486E-A2A3-F6022D181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71160" y="14475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18800" y="14475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6763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71160" y="36763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18800" y="36763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4C2C-F88A-4985-9ED8-36984A92B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5E3E-6022-4A51-89BD-0C82F919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743E-A2A9-4AB7-BD74-9C16107F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33320" y="144756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E942-357A-450F-B95C-2B31A573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8E67-4EA3-4002-94A6-10D1C5E6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228600"/>
            <a:ext cx="6172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966A-CCF8-479A-AD05-8FFE71A6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33320" y="144756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67632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F71F-8919-4C52-800F-ACAEC93C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333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33320" y="367632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6DA4-8C7E-4180-BF32-7E1E6A44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33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67632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BA0B-1BFF-47D4-BB2F-62D9F574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5D6F-F3D2-45EC-9125-E34FBFBF7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600200" y="15238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TD Mercury Accounting Modu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3BFE-521E-498C-BCDD-9E11D2B5A298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porting to Quickbook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905120" y="2590920"/>
            <a:ext cx="5333760" cy="320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23880" y="1219320"/>
            <a:ext cx="66294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start and end date for 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how balance report shall be printed, Summary vs. 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8BDC-E259-498A-8E62-354D37B6ED2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porting to Quickbooks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209680" y="1447920"/>
            <a:ext cx="5634000" cy="410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DE85-2871-44E2-AEC4-352DA9645C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porting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to Quickbooks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214720" y="1447920"/>
            <a:ext cx="5857560" cy="4267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flipH="1">
            <a:off x="7924680" y="5486400"/>
            <a:ext cx="53352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B773-F1C0-4D28-ACAC-E8D63AEB36B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ata in Quickbook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520" y="990720"/>
            <a:ext cx="7239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E sales are exported by sale date of transactio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OS sales are export by z-out date if the z-out date is different than the sale date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dividual sale data is not exported to Quickbooks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ata is exported only as daily totals for each day in the date range selected.  Detail is found in FTD Mercury Reports (Mercury Forms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aily totals include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ash &amp; checks receiv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redit cards activ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ouse account activ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livery &amp; service charges on ord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duct category of the items on ord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12D7-33D9-4EE0-80E5-B1E376C7B14E}" type="slidenum">
              <a:t>13</a:t>
            </a:fld>
          </a:p>
        </p:txBody>
      </p:sp>
    </p:spTree>
  </p:cSld>
  <p:transition>
    <p:comb dir="horz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ournal Entries in Quickbook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43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553080" y="1676160"/>
            <a:ext cx="1943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ies for Aug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ies for Aug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523880" y="1600200"/>
            <a:ext cx="4827600" cy="3840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flipH="1">
            <a:off x="6552360" y="1981080"/>
            <a:ext cx="83844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400800" y="3962520"/>
            <a:ext cx="83808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AADC-DA0A-49EC-AF4C-48D663C504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ournal Entries in Quickbooks Explained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 $100 or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TD Mercur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boo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lowers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$59.99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erishables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$59.99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hocolate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$12.95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andy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$12.9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livery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$20.00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livery Income    $20.00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ax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$7.06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ales Tax Payable $7.0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ash Paid $100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ank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$10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ers are part of the ‘Perishables’ product categor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colate is part of the ‘Candy’ product categor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19720" y="2209680"/>
            <a:ext cx="7617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19720" y="2743200"/>
            <a:ext cx="7617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19720" y="3124080"/>
            <a:ext cx="7617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3581280"/>
            <a:ext cx="7617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3962520"/>
            <a:ext cx="7617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19720" y="4343400"/>
            <a:ext cx="7617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91B8-3AB5-475F-9F7D-1111B8767D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andling Wire Orders in Quickbook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on wire order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ing floris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s selling commission of 2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ing flori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d for product &amp; delivery less the sending florist commission and wire service commission of 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9FF7-5E98-4EE0-8AC1-67843F9F49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Wire Orders Appear in Quickbook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ing ord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% payment of wire order is transferred into Accounts Receivable FT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% of sales of product category fi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going order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%  Payment from custom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%) Product &amp; Delivery (Outgoing s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80%) Accounts Payable FT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80% that is paid to FTD on outgoing ord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731C-FEA9-428D-9E47-5B21DEC78F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ickbooks &amp; Clearing House Statemen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must make journal entries in Quickbooks to account for what you are actually paid on wire ord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entries are already made in Quickbook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les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s Payable  (80% paid to FTD on outgo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s Receivable (100% of amount received over the wire on incoming ord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A7DB-0D9B-4EFD-BDEF-9888BDB9156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ickbooks &amp; Clearing House Statemen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ntries will you have to make in Quickbook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Commissions Expense (20% kept by sending florist on an incoming ord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 Advance Expense (7% commission to FTD taken on an incoming ord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ments and other charges for wire o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wire service expenses and credi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CADA-29DF-4048-8D51-54A8C4AF13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 Basic Concep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data is transferred\exported to Quickboo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FTD Mercury exports sales data to Quickboo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he FTD Mercury sales data appears in Quickboo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handle the payment of wire orders from your monthly clearinghouse sta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741C-A676-410F-9205-AAF145EC9828}" type="slidenum">
              <a:t>2</a:t>
            </a:fld>
          </a:p>
        </p:txBody>
      </p:sp>
    </p:spTree>
  </p:cSld>
  <p:transition>
    <p:comb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ickbooks &amp; Clearing House Statemen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’s look at an FTD Clearing House Statement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Section B from the Clearing House Statement page labeled ‘ FTD Member Activity Statement’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not use the amount listed for Section B from the Statement Summary Pa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ummary page does not show the amounts that you need to enter for  ‘Commission Expense’ and ‘Wire Service Commission’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21E9-B404-42F2-BAF7-0B199089F0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ember Activity Statement – Section B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595520" y="1886040"/>
            <a:ext cx="7094520" cy="339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8EE6-D2CC-4491-8F6B-9FA82748FE9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tion B – Incoming Order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600200" y="1371600"/>
            <a:ext cx="6095880" cy="2927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924680" y="2133720"/>
            <a:ext cx="1219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4267080"/>
            <a:ext cx="7696080" cy="35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Add all 20 % commissions given for incoming orders. This is your ‘Commissions Expens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Clearing House &amp; Marketing Advance is the ‘ Wire Service Commission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B97A-6CF6-4C16-9CFF-D7AB54C0525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tion B – Incoming Order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520" y="1447920"/>
            <a:ext cx="7620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example,  FTD wire service commission equals $100.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‘Wire Commission Expense’  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3.4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+44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87.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523880" y="1523880"/>
            <a:ext cx="5791320" cy="276876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106" name=""/>
          <p:cNvSpPr/>
          <p:nvPr/>
        </p:nvSpPr>
        <p:spPr>
          <a:xfrm flipH="1">
            <a:off x="6781680" y="2438280"/>
            <a:ext cx="45720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6781680" y="2743200"/>
            <a:ext cx="45720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781680" y="3429000"/>
            <a:ext cx="45720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1E94-C026-4375-BA9B-139D8F14733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ickbooks Journal Entri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ing Ord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b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s Receivable FT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37.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TD Clearing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37.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d to Sending Flori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7.4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TD Clearing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7.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TD Wire Commis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.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TD Clearing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.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94F6-6D96-467F-8F7B-673821A27F8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tion B – Outgoing Order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447920" y="1371600"/>
            <a:ext cx="6248160" cy="3000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924680" y="2133720"/>
            <a:ext cx="1219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4343400"/>
            <a:ext cx="76960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Subtract all 20 % commissions earned for the amount listed above for outgoing orders. This is the 80% paid to FTD on outgoing orders. This amount has already been calculated for you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3242-DDA2-40A0-A403-9E9D933C9A4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tion B – Outgoing Order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447920" y="1371600"/>
            <a:ext cx="6248160" cy="30002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7924680" y="2133720"/>
            <a:ext cx="1219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4343400"/>
            <a:ext cx="7696080" cy="32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In this example FTD accounts payable total is 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</a:rPr>
              <a:t>$1992.6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28.00 –     5.60 =    22.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2409.00 - 481.80 = 197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715000" y="4724280"/>
            <a:ext cx="2209680" cy="38124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5638680" y="4724280"/>
            <a:ext cx="2286000" cy="83844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C0CA-BE47-4B54-8608-B3F3FE01080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ickbooks Journal Entrie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utgoing Ord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bi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TD Accts Payabl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92.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TD Clearing Accoun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92.6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017D-8BD4-4385-AA5A-A19D9564E50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tion B Adjustment &amp; other charg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ay have to additional entries for adjustments, taxes or Retrans char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ntries should be made to the appropriate accounts of your ch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0CAD-A93F-43F5-ABFC-D3F9DAB8843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ther Wire Expenses &amp; Credi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 order related expenses and rebates will appear in other sections of the clearing house stat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should be entered into Quickbooks to accounts of your cho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ay need to create additional accounts in Quickbooks to track these expenses and cr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9AF8-F5F3-4992-B2DA-13E0A689E27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eligible for export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ENTERED INTO THE SYSTEM THAT MEETS THE CRITERIA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DB6E-2D40-4A99-8265-349C9B3E882F}" type="slidenum">
              <a:t>3</a:t>
            </a:fld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sing a Clearing Accoun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a Clearing Accou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learing account can be used to ensure all entries you make in Quickbooks are accu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books follows GAAP Generally Accepted Accounting Princi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requires that you make an offsetting journal entry when entering in expenses and cred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clearing account for th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BDFC-C91B-43E4-9A83-E5FFC3102F1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sing A Clearing Accoun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3520" y="1294920"/>
            <a:ext cx="7239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you make an entry for 20% commissions given on incoming orders you would offset this entry against the clearing accou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ll expenses and credit are offset to the same clearing account this ensures the entries are made correct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ce all activity has been entered from the clearing house statement and offset to the clearing account, the remaining balance on the clearing account will represent a amount that is owed to FTD or a check received from FT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41B6-A42B-4C02-99B9-BFA16D551CC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sing a Clearing Accoun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mount that remains in the clearing account received should match the amount showing on the clearing house state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lly once a check has been deposited from FTD or and check written to FTD that entry will be made against the clearing accou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entry will clear the balance in the clearing accoun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1531-314B-4AA3-A64B-39F9C242FF4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ank You!!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s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9BAF-4CD3-4AD1-A1E2-3046CB38F2A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riteria For Data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ompleted Order Entry  &amp; Point Of Sale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POS sales in a closed POS session (z-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 account pay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ctions entered from ‘Manual Ticket’ window (Credit &amp; debit mem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e char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A67D-88CC-4ABB-82D7-C60ADE1C8DE4}" type="slidenum">
              <a:t>4</a:t>
            </a:fld>
          </a:p>
        </p:txBody>
      </p:sp>
    </p:spTree>
  </p:cSld>
  <p:transition>
    <p:comb dir="horz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art of Accounts Setup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286000" y="1447920"/>
            <a:ext cx="5638680" cy="3636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flipH="1">
            <a:off x="5486400" y="2286000"/>
            <a:ext cx="45720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2FA4-EF97-45DB-88C6-FB0E28FBB9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hart of Account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t of accounts creates the Quickbooks company file where data will be expor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 also transfers any changes made in FTD Mercury that will affect the structure of the Quickbooks company file. i.e. creating a new product catego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ust make decisions on how you want certain types of information to transfer to Quick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0439-919B-4B82-AD09-4A9A39DDBF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rt of Accounts Setup: What You Must Consider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 Store Setup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gle company file for all vs. separate company file for e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sh Deposit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nk account vs. cash holding accou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edit Card deposi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nk account vs. credit card holding account (Accounts Re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id Outs &amp; In from P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rating expense vs. Cost of Goods So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77F1-0993-4A62-8402-5A9D5B8CFC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rt of Accounts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ditional Feature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dditional bank accou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beginning date for the ex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t\change GL account numb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1F7B-6698-493F-B5F5-958E1D6080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porting to Quickbook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s exported (transferred) to Quickbooks through the Balance Wizard option from Accounting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438280" y="2438280"/>
            <a:ext cx="5105520" cy="3292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>
            <a:off x="5638680" y="3657600"/>
            <a:ext cx="45720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BDD2-82BE-488B-8F68-965F00C5D5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TAC3740</cp:lastModifiedBy>
  <cp:lastPrinted>2004-05-28T16:39:18Z</cp:lastPrinted>
  <dcterms:modified xsi:type="dcterms:W3CDTF">2008-10-09T18:36:51Z</dcterms:modified>
  <cp:revision>44</cp:revision>
  <dc:subject/>
  <dc:title>PowerPoint Presentation</dc:title>
</cp:coreProperties>
</file>